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AA9736-5318-4953-AA8C-68272F133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43CE01-FD86-4CC7-8D43-B7CD201588B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8F0AD1-D12F-488A-92C9-98DB528211B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3F85F2-EE8C-4CE6-8E9F-15F011D8675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222BAD-B0F0-43E2-B9F5-388799C4762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5B042C-927A-46DC-B0D6-DD3E8BA7DEF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B9A98D-80C2-42BE-BE4E-200952062A3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514094-3680-4630-B958-AA928454A68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AB6FC7-4D79-4836-B4A7-9B7B6BCE7B0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14F31A-FDB4-4340-AC64-9BDE9D81D2F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881FC2-32EE-4610-82C5-AEF1E0EA73C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205698-B9C6-4B5C-A117-CF1D77990AC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CC1532-7A01-4FE4-925A-E4BEF70BCC8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7EF93F-36BE-48D5-906C-4E21D488A07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2F60D2-18ED-4BBF-8A1E-58C5ADE258C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E3DF6-06D9-45AC-9E53-0E0BB92267E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54364B-7F44-49A0-B20B-0CA0EF8F26B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D2BEC8-29AB-4EC9-AFA0-0CA1103D1B7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1026FC-2704-4A63-B33B-59D761929E8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673A29-33DE-4ADF-8F8F-BA269ADDB2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1584CE-267D-46EF-A06E-A0FDDABA7C6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139-5F28-4D15-A56B-F0FDE259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576-D8AE-47CA-B350-73063C44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585-161A-4746-8CA1-418079E4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7D9-BFE7-42DF-B8F4-71D5A8BF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1709-71BD-48E2-806B-61B53A37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4A46-95FB-4442-B949-A588839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FE23-3924-409E-9F6B-C7FF707F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AD3B-3770-475D-8E4D-95360426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179B-447E-4B47-9C60-EB92E161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69D2-9AAC-4749-AC36-26E10D25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AE6C-F7A9-4BDC-A222-4A51E6E4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9F6-F312-42D2-85CF-13E0A07C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C18D-FF68-4186-88B5-1E24617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67E1-FDD3-483D-A1BC-3B55849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F6E0-3E44-40B4-9AA7-4ADC081F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F22C-37DF-4F7D-B65D-62241EF8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9C96-3BC4-40A0-980B-0E6D8AD7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527-9BE1-4DB1-A472-1FBE9119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504-BC5C-40FB-A1F4-8920F76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C8E-9153-4F58-93C3-BE8BBFDF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04E-1768-47C1-A632-143DB36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03C-C18D-43F5-9DE4-ECB6E0B7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380-EE7E-4E44-9F99-673D381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877-050D-4527-BFF2-F2901245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1F7B-D7AC-43DC-A2C6-299E1906E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BEBF-F516-423E-837A-4EAF5F76DB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Dictionary &amp; Post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2062080"/>
            <a:ext cx="36957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ultiple term entries in a single document are merg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lit into Dictionary and 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. frequency information is add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1" name="Object 35"/>
          <p:cNvGraphicFramePr/>
          <p:nvPr/>
        </p:nvGraphicFramePr>
        <p:xfrm>
          <a:off x="3962520" y="1827360"/>
          <a:ext cx="12175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827360"/>
                    <a:ext cx="12175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7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 on dis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umes memory to pairs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re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two 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  <a:ea typeface="Arial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  <a:ea typeface="Arial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  <a:ea typeface="Arial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204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6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207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09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3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214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6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18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21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246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249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1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269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1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272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4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275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77" name="AutoShape 124"/>
          <p:cNvCxnSpPr>
            <a:stCxn id="270" idx="0"/>
            <a:endCxn id="276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78" name="AutoShape 125"/>
          <p:cNvCxnSpPr>
            <a:stCxn id="273" idx="0"/>
            <a:endCxn id="276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79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280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82" name="AutoShape 135"/>
          <p:cNvCxnSpPr>
            <a:stCxn id="276" idx="0"/>
            <a:endCxn id="281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3" name="AutoShape 136"/>
          <p:cNvCxnSpPr>
            <a:endCxn id="281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84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  <a:ea typeface="Arial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8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289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  <a:ea typeface="Arial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1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  <a:ea typeface="Arial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npredictably slow down or fai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chine directing the indexing job – considere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f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60000"/>
              </a:lnSpc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doc-based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0" name="AutoShape 22"/>
          <p:cNvCxnSpPr>
            <a:stCxn id="315" idx="3"/>
            <a:endCxn id="32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23"/>
          <p:cNvCxnSpPr>
            <a:stCxn id="316" idx="3"/>
            <a:endCxn id="32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24"/>
          <p:cNvCxnSpPr>
            <a:stCxn id="318" idx="3"/>
            <a:endCxn id="32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7" name="AutoShape 38"/>
          <p:cNvCxnSpPr>
            <a:stCxn id="324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AutoShape 39"/>
          <p:cNvCxnSpPr>
            <a:stCxn id="325" idx="6"/>
            <a:endCxn id="339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40"/>
          <p:cNvCxnSpPr>
            <a:stCxn id="326" idx="6"/>
            <a:endCxn id="341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7" name="AutoShape 55"/>
          <p:cNvCxnSpPr>
            <a:stCxn id="342" idx="6"/>
            <a:endCxn id="343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2" name="AutoShape 62"/>
          <p:cNvCxnSpPr>
            <a:stCxn id="339" idx="6"/>
            <a:endCxn id="344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AutoShape 63"/>
          <p:cNvCxnSpPr>
            <a:stCxn id="341" idx="6"/>
            <a:endCxn id="345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8381880" cy="3532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erm-based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80" name="AutoShape 22"/>
          <p:cNvCxnSpPr>
            <a:stCxn id="365" idx="3"/>
            <a:endCxn id="37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23"/>
          <p:cNvCxnSpPr>
            <a:stCxn id="366" idx="3"/>
            <a:endCxn id="37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AutoShape 24"/>
          <p:cNvCxnSpPr>
            <a:stCxn id="368" idx="3"/>
            <a:endCxn id="37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6" name="AutoShape 38"/>
          <p:cNvCxnSpPr>
            <a:stCxn id="374" idx="6"/>
            <a:endCxn id="384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AutoShape 39"/>
          <p:cNvCxnSpPr>
            <a:stCxn id="375" idx="6"/>
            <a:endCxn id="387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40"/>
          <p:cNvCxnSpPr>
            <a:stCxn id="376" idx="6"/>
            <a:endCxn id="390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9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2" name="AutoShape 46"/>
          <p:cNvCxnSpPr>
            <a:stCxn id="384" idx="0"/>
            <a:endCxn id="399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AutoShape 47"/>
          <p:cNvCxnSpPr>
            <a:stCxn id="387" idx="0"/>
            <a:endCxn id="399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AutoShape 50"/>
          <p:cNvCxnSpPr>
            <a:stCxn id="390" idx="0"/>
            <a:endCxn id="399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9" name="AutoShape 55"/>
          <p:cNvCxnSpPr>
            <a:stCxn id="399" idx="6"/>
            <a:endCxn id="405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16" name="AutoShape 62"/>
          <p:cNvCxnSpPr>
            <a:stCxn id="400" idx="6"/>
            <a:endCxn id="406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63"/>
          <p:cNvCxnSpPr>
            <a:stCxn id="401" idx="6"/>
            <a:endCxn id="407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46" name="AutoShape 22"/>
          <p:cNvCxnSpPr>
            <a:stCxn id="431" idx="3"/>
            <a:endCxn id="440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23"/>
          <p:cNvCxnSpPr>
            <a:stCxn id="432" idx="3"/>
            <a:endCxn id="442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AutoShape 24"/>
          <p:cNvCxnSpPr>
            <a:stCxn id="434" idx="3"/>
            <a:endCxn id="441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62" name="AutoShape 38"/>
          <p:cNvCxnSpPr>
            <a:stCxn id="440" idx="6"/>
            <a:endCxn id="450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AutoShape 39"/>
          <p:cNvCxnSpPr>
            <a:stCxn id="441" idx="6"/>
            <a:endCxn id="453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AutoShape 40"/>
          <p:cNvCxnSpPr>
            <a:stCxn id="442" idx="6"/>
            <a:endCxn id="456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68" name="AutoShape 46"/>
          <p:cNvCxnSpPr>
            <a:stCxn id="450" idx="0"/>
            <a:endCxn id="465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AutoShape 47"/>
          <p:cNvCxnSpPr>
            <a:stCxn id="453" idx="0"/>
            <a:endCxn id="465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AutoShape 50"/>
          <p:cNvCxnSpPr>
            <a:stCxn id="456" idx="0"/>
            <a:endCxn id="465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75" name="AutoShape 55"/>
          <p:cNvCxnSpPr>
            <a:stCxn id="465" idx="6"/>
            <a:endCxn id="471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82" name="AutoShape 62"/>
          <p:cNvCxnSpPr>
            <a:stCxn id="466" idx="6"/>
            <a:endCxn id="472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AutoShape 63"/>
          <p:cNvCxnSpPr>
            <a:stCxn id="467" idx="6"/>
            <a:endCxn id="473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  <a:ea typeface="Arial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w docs go into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mal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series of indexes, each twice as large as the previous one: 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small index (Z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of size 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…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sizes M , 2M , 4M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Z gets too big (&gt;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ready exist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ther write merge Z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form a larger Z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# indexes = logarithmi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T = #postings = #token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xiliary and main inde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index construction time for a text T in a collection C is O(T * (C/M)) as each posting of T is touched in eachone of the (C/M) merges. (Inserting the terms of a text T into an index takes O(T) time, if you use hashtable and lists.) Overall this is O(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/M) summing over all tex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Logarithmic me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posting is merged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(log (C/M) ) times, so the total time cost i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( T log (C/M) ). (Inserting the terms of a text T into an index takes O(T) time, if you use hashtable and lists.) Overall this is O(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log (C/M)) summing over all tex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emory hierarch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50920" y="2565360"/>
            <a:ext cx="8424720" cy="2664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692360" y="2997360"/>
            <a:ext cx="100800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44720" y="3213000"/>
            <a:ext cx="935280" cy="503280"/>
          </a:xfrm>
          <a:prstGeom prst="leftRightArrow">
            <a:avLst>
              <a:gd name="adj1" fmla="val 50000"/>
              <a:gd name="adj2" fmla="val 36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2987640"/>
            <a:ext cx="1584360" cy="1008000"/>
          </a:xfrm>
          <a:prstGeom prst="rect">
            <a:avLst/>
          </a:prstGeom>
          <a:solidFill>
            <a:srgbClr val="00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156480" y="2900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3" name="Group 9"/>
          <p:cNvGrpSpPr/>
          <p:nvPr/>
        </p:nvGrpSpPr>
        <p:grpSpPr>
          <a:xfrm>
            <a:off x="250920" y="2565360"/>
            <a:ext cx="8424720" cy="2666880"/>
            <a:chOff x="250920" y="2565360"/>
            <a:chExt cx="8424720" cy="2666880"/>
          </a:xfrm>
        </p:grpSpPr>
        <p:sp>
          <p:nvSpPr>
            <p:cNvPr id="104" name="Rectangle 10"/>
            <p:cNvSpPr/>
            <p:nvPr/>
          </p:nvSpPr>
          <p:spPr>
            <a:xfrm>
              <a:off x="250920" y="2565360"/>
              <a:ext cx="8424720" cy="2664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611280" y="3060720"/>
              <a:ext cx="1008000" cy="93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169236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826920" y="3708360"/>
              <a:ext cx="720720" cy="21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2124000" y="3205080"/>
              <a:ext cx="360360" cy="648000"/>
            </a:xfrm>
            <a:prstGeom prst="rect">
              <a:avLst/>
            </a:prstGeom>
            <a:solidFill>
              <a:srgbClr val="ffcf01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5600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2987640" y="2987640"/>
              <a:ext cx="360360" cy="1008000"/>
            </a:xfrm>
            <a:prstGeom prst="rect">
              <a:avLst/>
            </a:prstGeom>
            <a:solidFill>
              <a:srgbClr val="ffcf01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341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851280" y="2987640"/>
              <a:ext cx="1584360" cy="1008000"/>
            </a:xfrm>
            <a:prstGeom prst="rect">
              <a:avLst/>
            </a:pr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1835280" y="2629080"/>
              <a:ext cx="1800000" cy="180000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1775880" y="4140360"/>
              <a:ext cx="1753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ch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3856680" y="4044960"/>
              <a:ext cx="189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G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ens of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550872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6012000" y="2987640"/>
              <a:ext cx="576000" cy="10080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665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>
              <a:off x="7164360" y="2627280"/>
              <a:ext cx="1224000" cy="1871640"/>
            </a:xfrm>
            <a:prstGeom prst="irregularSeal2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5879880" y="3995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7237440" y="4498920"/>
              <a:ext cx="98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any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en 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acket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5864760" y="4211640"/>
              <a:ext cx="127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illi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 = 32K page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3" name="Rectangle 3"/>
          <p:cNvSpPr/>
          <p:nvPr/>
        </p:nvSpPr>
        <p:spPr>
          <a:xfrm>
            <a:off x="468360" y="5950080"/>
            <a:ext cx="8169120" cy="682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Arial"/>
              </a:rPr>
              <a:t>Spatial locality or Temporal loca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7" name="Gruppo 35"/>
          <p:cNvGrpSpPr/>
          <p:nvPr/>
        </p:nvGrpSpPr>
        <p:grpSpPr>
          <a:xfrm>
            <a:off x="759960" y="2637000"/>
            <a:ext cx="7548840" cy="1185120"/>
            <a:chOff x="759960" y="2637000"/>
            <a:chExt cx="7548840" cy="1185120"/>
          </a:xfrm>
        </p:grpSpPr>
        <p:sp>
          <p:nvSpPr>
            <p:cNvPr id="128" name="Rectangle 5"/>
            <p:cNvSpPr/>
            <p:nvPr/>
          </p:nvSpPr>
          <p:spPr>
            <a:xfrm>
              <a:off x="625284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3509640" y="28573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3499920" y="286524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35096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48812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528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41954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8588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88124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>
              <a:off x="526248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>
              <a:off x="78501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75135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759960" y="263700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20"/>
            <p:cNvSpPr/>
            <p:nvPr/>
          </p:nvSpPr>
          <p:spPr>
            <a:xfrm>
              <a:off x="2360160" y="3507120"/>
              <a:ext cx="324036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1"/>
            <p:cNvSpPr/>
            <p:nvPr/>
          </p:nvSpPr>
          <p:spPr>
            <a:xfrm>
              <a:off x="2369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23"/>
            <p:cNvSpPr/>
            <p:nvPr/>
          </p:nvSpPr>
          <p:spPr>
            <a:xfrm>
              <a:off x="51130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>
              <a:off x="30553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>
              <a:off x="27190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>
              <a:off x="412236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79232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AutoShape 28"/>
            <p:cNvSpPr/>
            <p:nvPr/>
          </p:nvSpPr>
          <p:spPr>
            <a:xfrm rot="16200000">
              <a:off x="543204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>
              <a:off x="336816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Text Box 31"/>
            <p:cNvSpPr/>
            <p:nvPr/>
          </p:nvSpPr>
          <p:spPr>
            <a:xfrm>
              <a:off x="193680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250452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394452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 flipH="1">
              <a:off x="430488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315216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9" name="Rettangolo arrotondato 36"/>
          <p:cNvSpPr/>
          <p:nvPr/>
        </p:nvSpPr>
        <p:spPr>
          <a:xfrm>
            <a:off x="4716360" y="6165720"/>
            <a:ext cx="442764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gain caching helps, but how much ?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tring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t the str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Generate separate dictionaries for each block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ccumulate postings in lists as they occur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ression is poss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indexes into one big index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sy append with 1 file per posting (docID are increasing within a block), otherwise multi-merg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ik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all, SPIM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85800" y="1752120"/>
            <a:ext cx="525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ictionary &amp; postings: How do we construct them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Sca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tex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Fi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proper tokens-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Appe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o the proper tokens-list the doc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250920" y="4575240"/>
            <a:ext cx="576108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Find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ppend 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siz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one single index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89680" y="22579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332360" y="16286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61800" y="465480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78360" y="4038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724212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212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4"/>
          <p:cNvSpPr/>
          <p:nvPr/>
        </p:nvSpPr>
        <p:spPr>
          <a:xfrm>
            <a:off x="6638760" y="38862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505620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620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Lucida Sans"/>
              </a:rPr>
              <a:t>Some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2019240"/>
            <a:ext cx="5700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ign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reate pairs &lt;termID, docID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ort by Term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in-pla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20T08:55:14Z</dcterms:modified>
  <cp:revision>1206</cp:revision>
  <dc:subject/>
  <dc:title>Web Algorithmics</dc:title>
</cp:coreProperties>
</file>